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br>
              <a:rPr sz="2800"/>
            </a:br>
            <a:br>
              <a:rPr sz="2800"/>
            </a:b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мет: Енглески јези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едавач: Душица Лази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 – nowaday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 medicine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opathy as a branch of medic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ine as a Scienc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 (Latin medicus, “physician”), is the science and art of diagnosing, treating and preventing disease and injury. Its goals are to help people to live longer, happier, more active lives with less suffering and disability. Medicine goes beyond the bedside of patients. Medical scientists engage in a constant search for new drugs, effective treatments, and more advanced technolog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significant notions from the field of medicine were given by old Greeks. The Greeks not only made substantial progress in understanding the cosmos but also went far beyond their predecessors in their knowledge of the human body. Pre-Greek medicine had been almost entirely confined to religion and ritu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itia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lec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li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be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its goa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gave the first notions in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disease treated in ancient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ere Hippocrates and his pupils important in the development of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was Galen of Pergam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modern medicine be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weapons were developed to fight disease effecti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job of a physici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medicine represent nowa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eclectic?”</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ow   b) one-sided   c) comprehensive  d)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substantial?”</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b) considerable  c) insignificant   d) volati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striking?”</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b) ordinary     c) unexceptional   d) impres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underlying?”</a:t>
            </a:r>
            <a:endParaRPr b="0" lang="en-US" sz="2000" spc="-1" strike="noStrike">
              <a:solidFill>
                <a:srgbClr val="000000"/>
              </a:solidFill>
              <a:latin typeface="Arial"/>
            </a:endParaRPr>
          </a:p>
          <a:p>
            <a:pPr marL="343080" indent="-343080">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ssential    b) basic    c) complex     d) un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divi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dlike    b) natural    c) earthly     d) mate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djectives from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i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tri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correct preposition in the following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ientists engage.........a constant search........new drugs, effective treatments, etc.</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reek medicine had been almost entirely confined...........religion and ritu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ase was dealt.............by spells, prayers and other propitiatory measures in the ancient worl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aladies were held to originate..............natural causes...........the bod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en of Pergamum based his physiology...............his own dissections of apes and pig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pocrates relied primarily..............simple, clean living and the ability of the body to heal itsel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medicine came to refer.............the aggregate of scientif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s related.............prevention and treatment of disease as well as maintenance of healt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overies in medicine have had a huge impact...............human well-being.</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s check the patient’s medical history..............past symptoms or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professionals must apply their abilities.............imaginative 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at is meant by:</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 of diagnos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reek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irical sc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liative 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ological 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7T15:41:57Z</dcterms:modified>
  <cp:revision>13</cp:revision>
  <dc:subject/>
  <dc:title>Slide 1</dc:title>
</cp:coreProperties>
</file>